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F39-759D-4F86-9143-4ED1F810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7EF-A159-4AB7-A734-1DB2CF62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2E7-2023-4EE5-8185-408B14FB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BBBC-E823-488A-BA88-05D0D320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EB6-4500-458E-B76A-89460D71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8B6-74F9-4115-B997-02ED602F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672-7810-46D9-9615-0D5CD5BD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EEDC-7A6E-44FC-AC15-5FD4EC43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5F9-0C10-4723-87C7-66152F6A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465-5CAF-4811-AB3B-551B314C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4E65-7AE9-4E5C-AE89-7F6A66C6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5F0-4134-4957-AC44-07259AB3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1FA9-010C-47A7-82F8-042FE1CA48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576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 Light"/>
              </a:rPr>
              <a:t>Система поддержки школ,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щие статус ШНОР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обрянском городском округе</a:t>
            </a: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4452480"/>
            <a:ext cx="1036332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Муниципальный куратор  проекта 500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орина Искра Викторовн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, и.о.начальника управления образования администрации Добрян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Куратор шк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Калашникова Елена Анатольевна,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директор МБУ ДПО «Информационно-методический центр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2600" y="55440"/>
            <a:ext cx="12412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9199440" y="177840"/>
            <a:ext cx="2936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3"/>
          <p:cNvSpPr/>
          <p:nvPr/>
        </p:nvSpPr>
        <p:spPr>
          <a:xfrm>
            <a:off x="1900080" y="85680"/>
            <a:ext cx="8785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С ЧЕГО ВСЁ НАЧИН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47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166680" y="2457360"/>
            <a:ext cx="3208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Член группы - ответственный за реализацию подпрограммы в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даптация  показателей подпрограммы для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Разработка и внесение изменений в дорожную карту подпрограммы «Поддержка школ со ШНО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охождение  муниципального мониторин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частие в собеседовании по итогам мониторинга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781440" y="644400"/>
            <a:ext cx="829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ыстраивание взаимодействия со школами, имеющими статус ШН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198360" y="112860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августа 2021г. Творческая группа по реализации подпрограммы ШН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создание ВСУКО в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13"/>
          <p:cNvSpPr/>
          <p:nvPr/>
        </p:nvSpPr>
        <p:spPr>
          <a:xfrm>
            <a:off x="2906640" y="3848040"/>
            <a:ext cx="40500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ъект 2"/>
          <p:cNvSpPr/>
          <p:nvPr/>
        </p:nvSpPr>
        <p:spPr>
          <a:xfrm>
            <a:off x="3914640" y="1309680"/>
            <a:ext cx="7874280" cy="708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ahnschrift SemiLight"/>
              </a:rPr>
              <a:t>По результатам оценочных процедур качества образования 2021 года </a:t>
            </a:r>
            <a:r>
              <a:rPr b="0" lang="ru-RU" sz="1800" spc="-1" strike="noStrike">
                <a:solidFill>
                  <a:srgbClr val="ff0000"/>
                </a:solidFill>
                <a:latin typeface="Bahnschrift SemiLight"/>
              </a:rPr>
              <a:t>ШНОР 7 школ ДГО (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«+» динамика 5 ОО (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ъект 2"/>
          <p:cNvSpPr/>
          <p:nvPr/>
        </p:nvSpPr>
        <p:spPr>
          <a:xfrm>
            <a:off x="3514680" y="2116080"/>
            <a:ext cx="8290080" cy="12193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Комплексная разноуровневая модель системы поддержки школ с низкими образовательными результа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Ответственный за организацию работы со ШН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ahnschrift SemiLight"/>
              </a:rPr>
              <a:t>Калашникова Е.А. – директор МБУ ДПО «ИМЦ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ъект 2"/>
          <p:cNvSpPr/>
          <p:nvPr/>
        </p:nvSpPr>
        <p:spPr>
          <a:xfrm>
            <a:off x="3492360" y="3524400"/>
            <a:ext cx="28767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tserrat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Федеральный уровень </a:t>
            </a:r>
            <a:r>
              <a:rPr b="1" lang="ru-RU" sz="1800" spc="-1" strike="noStrike">
                <a:solidFill>
                  <a:srgbClr val="ff0000"/>
                </a:solidFill>
                <a:latin typeface="Calibri Light"/>
              </a:rPr>
              <a:t>проект «500+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униципальный куратор: Зорин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Куратор: Калашникова Е.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ивьинская СОШ», МБОУ «Вильвенская СОШ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6369120" y="3524400"/>
            <a:ext cx="265752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Краевой урове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«Образовательный лиф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ПСОШ № 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922960" y="3524400"/>
            <a:ext cx="315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Муниципальный уровень</a:t>
            </a: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муниципальная методическая служба МБУ ДПО «ИМ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2», 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ООШ № 1 «КШ»,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 МБОУ «ДСОШ № 5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Сенькинская </a:t>
            </a:r>
            <a:r>
              <a:rPr b="1" i="1" lang="ru-RU" sz="1800" spc="-1" strike="noStrike">
                <a:solidFill>
                  <a:srgbClr val="548235"/>
                </a:solidFill>
                <a:latin typeface="Bahnschrift SemiLight"/>
              </a:rPr>
              <a:t>СОШ» + </a:t>
            </a: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Перемская ООШ</a:t>
            </a: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»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МБОУ «ПСОШ № 3»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3"/>
          <p:cNvSpPr/>
          <p:nvPr/>
        </p:nvSpPr>
        <p:spPr>
          <a:xfrm>
            <a:off x="1900080" y="85680"/>
            <a:ext cx="939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2022год                           ПРОЕКТ «500+» - ЧТО СДЕЛ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63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0" y="1963800"/>
            <a:ext cx="471168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Информационное и методическое  сопровождение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Формирование концептуаль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Командо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Формирование горизонталь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связей в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 Light"/>
                <a:ea typeface="Calibri"/>
              </a:rPr>
              <a:t>Результат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-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концептуальные документы размещены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ИС МЭД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работают 3 рабочие группы по внедрению педагогических технологий: «Формирующее оценивание»,  «Проектная деятельность», «Школьный клима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 получена внешняя оценка концептуальным документам</a:t>
            </a: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786200" y="644400"/>
            <a:ext cx="72788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1. Сотрудничество с административной команд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1.встреча с административными командами по изучению методических материалов и верификация рисковых профи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3.просмотр и обсуждение вебинаров ФИОКО и ИРО П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4.обучение  руководителей проекта на КПК «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правление профессиональным ростом педагогов школ как условие повышения качества образовательных результатов обучающихся»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2. Встречи с педагогическим коллективом школ: 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 20 очных встре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- обсуждение выявленных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групповая работа по отбору мер для минимизации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рабочей группы по разработке концептуальных документ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дварительное  изучение концепции и среднесрочной программы развития каждым педагог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ссмотрение и принятие концептуальных документов   на педагогическом совете (групповая работа по детальному рассмотрению структурных компонентов антирисковых программ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3-х рабочих групп для участия в методическом марафоне (ФИОК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- создание рабочей группы по проведению взаимоэкспертизы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98520" y="923760"/>
            <a:ext cx="406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ия рабо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каз управления образования № 66 от 22.03.202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3"/>
          <p:cNvSpPr/>
          <p:nvPr/>
        </p:nvSpPr>
        <p:spPr>
          <a:xfrm>
            <a:off x="4255920" y="1949400"/>
            <a:ext cx="46368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2"/>
          <p:cNvSpPr/>
          <p:nvPr/>
        </p:nvSpPr>
        <p:spPr>
          <a:xfrm rot="10800000">
            <a:off x="4579560" y="4211640"/>
            <a:ext cx="27612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1339920" y="73080"/>
            <a:ext cx="10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Достижения и проблемы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75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3362400" y="174780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инятие проблем школы и желание их решать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3556080" y="3216240"/>
            <a:ext cx="376704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ерестройка методической служб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3473280" y="4151160"/>
            <a:ext cx="38498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астие всех педагогов в диагностике проф. дефици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7"/>
          <p:cNvSpPr/>
          <p:nvPr/>
        </p:nvSpPr>
        <p:spPr>
          <a:xfrm>
            <a:off x="3362400" y="503064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еализация И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8"/>
          <p:cNvSpPr/>
          <p:nvPr/>
        </p:nvSpPr>
        <p:spPr>
          <a:xfrm>
            <a:off x="3473280" y="2490840"/>
            <a:ext cx="38498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ктивное участие в педагогическом марафо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7815240" y="159876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7815240" y="322596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стабильное настроение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7815240" y="50306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ефицит педагогических кад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7908840" y="1663560"/>
            <a:ext cx="38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административной кома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956720" y="2322360"/>
            <a:ext cx="37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руководителя проекта 500+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7969320" y="42148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груженность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4"/>
          <p:cNvSpPr/>
          <p:nvPr/>
        </p:nvSpPr>
        <p:spPr>
          <a:xfrm>
            <a:off x="1339920" y="73080"/>
            <a:ext cx="10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раевой проект «Образовательный лифт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0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403440" y="1862280"/>
            <a:ext cx="39610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тавители школ - участники региональных  сетевых групп педагогов-предметников  («русский язык», «математика», «обществознание», «биология», «физика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3444840" y="4222800"/>
            <a:ext cx="396072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уководители школьных предметных методических объ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26"/>
          <p:cNvSpPr/>
          <p:nvPr/>
        </p:nvSpPr>
        <p:spPr>
          <a:xfrm>
            <a:off x="7550280" y="3665520"/>
            <a:ext cx="187200" cy="211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27"/>
          <p:cNvSpPr/>
          <p:nvPr/>
        </p:nvSpPr>
        <p:spPr>
          <a:xfrm>
            <a:off x="7534440" y="47451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7758000" y="230652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7815240" y="2340000"/>
            <a:ext cx="41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7815240" y="32259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эксперты (создание характеристики заданий и системы оценива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7877160" y="4387680"/>
            <a:ext cx="37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создатели контента (Создание комплексных заданий в формате PIS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вправо 29"/>
          <p:cNvSpPr/>
          <p:nvPr/>
        </p:nvSpPr>
        <p:spPr>
          <a:xfrm rot="5400000">
            <a:off x="5102640" y="2937600"/>
            <a:ext cx="47772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0"/>
          <p:cNvSpPr/>
          <p:nvPr/>
        </p:nvSpPr>
        <p:spPr>
          <a:xfrm>
            <a:off x="7843680" y="158580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1"/>
          <p:cNvSpPr/>
          <p:nvPr/>
        </p:nvSpPr>
        <p:spPr>
          <a:xfrm>
            <a:off x="7824960" y="2403360"/>
            <a:ext cx="38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апробаторы (апробация заданий банка РЭ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1339920" y="73080"/>
            <a:ext cx="10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етодическая служба Добрянского городского округа в действ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23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600120" y="5586480"/>
            <a:ext cx="3163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Создание на сайте МБУ ДПО «ИМЦ» кнопки «Горячая линия» для формирования заявок на методическую помощь»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https://imc.dobryanka-edu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3014640" y="2154240"/>
            <a:ext cx="4341960" cy="79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стоянно действующий семинар для  заместителей руководителей  по методической и воспитательной рабо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3056040" y="3081240"/>
            <a:ext cx="428292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рганизация процедуры аттестации педагогов  на территории Добрянс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3040200" y="3913200"/>
            <a:ext cx="4316400" cy="7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педагогических и руководящих кад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3014640" y="1351080"/>
            <a:ext cx="4349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рганизация деятельности и сопровождение профессионально-педагогических объединений (ПП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3040200" y="4740120"/>
            <a:ext cx="430848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7797960" y="1366920"/>
            <a:ext cx="4089240" cy="66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еятельность муниципальной лаборатории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лаборатории «Наставниче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7826400" y="2128680"/>
            <a:ext cx="408636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молодых педагог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7839000" y="2973240"/>
            <a:ext cx="404820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мен педагогическим опытом, в т.ч. методические конференции, фору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7870680" y="3863880"/>
            <a:ext cx="407052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нкурсы профессионального мастерства для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мощь 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7"/>
          <p:cNvSpPr/>
          <p:nvPr/>
        </p:nvSpPr>
        <p:spPr>
          <a:xfrm>
            <a:off x="7883640" y="4703760"/>
            <a:ext cx="4052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ониторинг и экспертная дея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3"/>
          <a:stretch/>
        </p:blipFill>
        <p:spPr>
          <a:xfrm>
            <a:off x="0" y="4551480"/>
            <a:ext cx="2479680" cy="1011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9"/>
          <p:cNvSpPr/>
          <p:nvPr/>
        </p:nvSpPr>
        <p:spPr>
          <a:xfrm>
            <a:off x="3887640" y="627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s://imc.dobryanka-edu.ru/upload/versions/20660/22256/Godovoj_plan_IMC.pdf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930240" y="73080"/>
            <a:ext cx="111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ЛАН 2023 г. Комплексный план по обеспечению пед.кадрами ОО Д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5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Овал 8"/>
          <p:cNvSpPr/>
          <p:nvPr/>
        </p:nvSpPr>
        <p:spPr>
          <a:xfrm>
            <a:off x="469800" y="338040"/>
            <a:ext cx="89244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tretch/>
        </p:blipFill>
        <p:spPr>
          <a:xfrm>
            <a:off x="469800" y="539640"/>
            <a:ext cx="665280" cy="4669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3164040" y="1747800"/>
            <a:ext cx="415908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ыделено всего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15"/>
          <p:cNvSpPr/>
          <p:nvPr/>
        </p:nvSpPr>
        <p:spPr>
          <a:xfrm>
            <a:off x="3130560" y="3216240"/>
            <a:ext cx="41925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конкурсов для молодых педагог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3097080" y="3995640"/>
            <a:ext cx="4251600" cy="7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влечение преподавателей для устранения профессиональных дефицитов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3114720" y="5030640"/>
            <a:ext cx="420840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подготовка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3146400" y="2306520"/>
            <a:ext cx="4192560" cy="77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я подвоза педагогов и учащихся на образовательные меро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ая соединительная линия 20"/>
          <p:cNvSpPr/>
          <p:nvPr/>
        </p:nvSpPr>
        <p:spPr>
          <a:xfrm>
            <a:off x="7628040" y="1741320"/>
            <a:ext cx="0" cy="484848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7815240" y="18050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 142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7815240" y="254808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7815240" y="3225960"/>
            <a:ext cx="37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7967520" y="322596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5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4"/>
          <p:cNvSpPr/>
          <p:nvPr/>
        </p:nvSpPr>
        <p:spPr>
          <a:xfrm>
            <a:off x="7940520" y="4997520"/>
            <a:ext cx="35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8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7978680" y="407052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21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34"/>
          <p:cNvSpPr/>
          <p:nvPr/>
        </p:nvSpPr>
        <p:spPr>
          <a:xfrm>
            <a:off x="3097080" y="5635800"/>
            <a:ext cx="42307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 системы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36"/>
          <p:cNvSpPr/>
          <p:nvPr/>
        </p:nvSpPr>
        <p:spPr>
          <a:xfrm>
            <a:off x="7547040" y="570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4"/>
          <p:cNvSpPr/>
          <p:nvPr/>
        </p:nvSpPr>
        <p:spPr>
          <a:xfrm>
            <a:off x="7986600" y="566892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1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3060720" y="6183360"/>
            <a:ext cx="42289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тажировка лучших команд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7997040" y="62247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500 тыс. 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41"/>
          <p:cNvSpPr/>
          <p:nvPr/>
        </p:nvSpPr>
        <p:spPr>
          <a:xfrm>
            <a:off x="7534440" y="62895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4908600" y="1212840"/>
            <a:ext cx="45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irce Bold"/>
              </a:rPr>
              <a:t>СПАСИБО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4884840" y="2705040"/>
            <a:ext cx="458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Зорина Искра Викторовн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uao@dobryanka.permkrai.ru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Калашникова Елена Анатольевна,  </a:t>
            </a:r>
            <a:r>
              <a:rPr b="1" lang="en-US" sz="1800" spc="-1" strike="noStrike">
                <a:solidFill>
                  <a:srgbClr val="002060"/>
                </a:solidFill>
                <a:latin typeface="Circe Bold"/>
              </a:rPr>
              <a:t>lenak200835@mail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6" descr="C:\Users\саша\Desktop\image_1617787612.jpg"/>
          <p:cNvPicPr/>
          <p:nvPr/>
        </p:nvPicPr>
        <p:blipFill>
          <a:blip r:embed="rId1"/>
          <a:stretch/>
        </p:blipFill>
        <p:spPr>
          <a:xfrm>
            <a:off x="9726480" y="3386160"/>
            <a:ext cx="2044800" cy="289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2" descr=""/>
          <p:cNvPicPr/>
          <p:nvPr/>
        </p:nvPicPr>
        <p:blipFill>
          <a:blip r:embed="rId2"/>
          <a:stretch/>
        </p:blipFill>
        <p:spPr>
          <a:xfrm>
            <a:off x="438120" y="1179360"/>
            <a:ext cx="4008600" cy="21542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" descr=""/>
          <p:cNvPicPr/>
          <p:nvPr/>
        </p:nvPicPr>
        <p:blipFill>
          <a:blip r:embed="rId3"/>
          <a:stretch/>
        </p:blipFill>
        <p:spPr>
          <a:xfrm>
            <a:off x="468360" y="3592440"/>
            <a:ext cx="398952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0" descr=""/>
          <p:cNvPicPr/>
          <p:nvPr/>
        </p:nvPicPr>
        <p:blipFill>
          <a:blip r:embed="rId4"/>
          <a:stretch/>
        </p:blipFill>
        <p:spPr>
          <a:xfrm>
            <a:off x="5102280" y="1762200"/>
            <a:ext cx="287820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G:\краевая конференция 29.11.2022\IMG_20221116_092706.jpg"/>
          <p:cNvPicPr/>
          <p:nvPr/>
        </p:nvPicPr>
        <p:blipFill>
          <a:blip r:embed="rId5"/>
          <a:stretch/>
        </p:blipFill>
        <p:spPr>
          <a:xfrm>
            <a:off x="9715680" y="279360"/>
            <a:ext cx="1939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4T18:42:32Z</dcterms:created>
  <dc:creator>maltv70</dc:creator>
  <dc:description/>
  <dc:language>en-US</dc:language>
  <cp:lastModifiedBy>саша</cp:lastModifiedBy>
  <cp:lastPrinted>2022-04-14T04:05:19Z</cp:lastPrinted>
  <dcterms:modified xsi:type="dcterms:W3CDTF">2022-11-28T19:24:02Z</dcterms:modified>
  <cp:revision>81</cp:revision>
  <dc:subject/>
  <dc:title>Школы, которым можно доверять</dc:title>
</cp:coreProperties>
</file>